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F01-BB8B-4F09-9177-806270CF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5F6-00DB-474E-B617-5C7B1430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DAB-CAD2-4A34-AAD8-F9A2CED4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218-104C-4CEC-B89D-406E82C5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D5F-D1BA-4671-A537-F21B8D5A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690-4BDC-4B5B-8A8A-DEF71B73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A8C-9689-48EE-B8C5-D962D5C1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F24-DEB5-4289-95C6-9201115A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27B-B3E2-4211-9CE4-D2209A58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BF3-B075-4B49-BB25-F8F35357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70F-A1C1-46B6-84BB-101C8E3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D6D-F4E2-41CC-B664-7AC51C20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06DB-16A4-470E-8C74-E65A733B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file:///../../../Downloaded%20Videos/Amoeba%20Feeds!.avi" TargetMode="External"/><Relationship Id="rId5" Type="http://schemas.openxmlformats.org/officeDocument/2006/relationships/hyperlink" Target="file:///../../../Downloaded%20Videos/Amoeba%20Feeds!.avi" TargetMode="External"/><Relationship Id="rId6" Type="http://schemas.openxmlformats.org/officeDocument/2006/relationships/hyperlink" Target="file:///../../../Downloaded%20Videos/Paramecium%20Feeding.avi" TargetMode="External"/><Relationship Id="rId7" Type="http://schemas.openxmlformats.org/officeDocument/2006/relationships/hyperlink" Target="file:///../../../Downloaded%20Videos/Paramecium%20Feeding.avi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Prokaryotic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429000" cy="310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34340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19720" y="3352680"/>
            <a:ext cx="304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6194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ic vs. Eukaryotic 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143000"/>
          <a:ext cx="8381880" cy="305748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 unicellular (one cell) organ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 bact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 multicellular (many cells) organ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 animals, plants, fungi, prot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22360" cy="224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4343400"/>
            <a:ext cx="1457280" cy="201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638680" y="5181480"/>
            <a:ext cx="1828800" cy="148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391520" y="4343400"/>
            <a:ext cx="126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’s a “Protist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cellular (one-celled) eukary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Amoeba, Paramecium, Eug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305160" cy="24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29000" y="4419720"/>
            <a:ext cx="3438360" cy="2247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638680" y="2590920"/>
            <a:ext cx="2895840" cy="2208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7680" y="529416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.\..\..\Downloaded Videos\Amoeb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eeds!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50292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.\..\..\Downloaded Videos\Parameciu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eeding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hat is the main difference between a prokaryotic and eukaryotic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What are the parts of a nucleus and where are they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What types of organisms have prokaryotic and eu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What are the parts of a prokaryotic cell and what are their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in difference between a prokaryotic and eukaryotic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organisms have pro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organisms have eu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h, that’s right…the nucle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u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rnel”) = tru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aryo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rnel”) = before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rrrr…. Pro =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Nucl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ar envelop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membranes surrounding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ar por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es in the envelope that allow substances in a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oplas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cytoplasm of the nucleus”; this is where DNA i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ol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all region inside the nucleus where ribosomes ar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prokaryotes don’t have a nucleus, where is their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ic DNA is found in a region of the cytoplasm called the “nucleoid reg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iled into linear (X-shaped) chromosomes; unwound in a circula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5938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0120" y="2590920"/>
            <a:ext cx="761760" cy="6858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Prokaryotic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id Re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8103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Organelles that are NOT Found in Prokaryo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with a membrane around it! (AKA membrane-bound organel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ER, Golgi, vacuoles, mitochondria,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62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3:27:49Z</dcterms:created>
  <dc:creator>Kate</dc:creator>
  <dc:description/>
  <dc:language>en-US</dc:language>
  <cp:lastModifiedBy>Kate</cp:lastModifiedBy>
  <dcterms:modified xsi:type="dcterms:W3CDTF">2011-11-08T21:18:23Z</dcterms:modified>
  <cp:revision>6</cp:revision>
  <dc:subject/>
  <dc:title>Slide 1</dc:title>
</cp:coreProperties>
</file>